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CE5-4927-45CC-B27E-35A785FF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70E-E802-4ADF-B13B-4B006472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B19-2228-47FC-B0DD-F8590436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BFC-1D1C-4234-8F2D-EBDDDC28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1D-9C77-4CFC-A700-98BCE13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A87-E707-4DDD-B18A-35C58CDC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446-E14B-4EB0-89AD-311A79D2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C86-EAA2-4487-A220-CB97BFBC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1EE-3F2E-496B-95D0-88DDD260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027-F9A6-4AF0-BF98-8A58BA0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8AE-4DC9-454B-BC3C-EE04C7B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06D-BBC2-42E2-9043-C28E942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9A30-A42A-4515-A6A8-DC3395458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ensguide.gpo.gov/3-5/state/delaware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76320"/>
            <a:ext cx="853416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Delawa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45720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Me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3-1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Peri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Computer #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tate Name-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apital- D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pulation- 78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ntered the union- December 7, 1787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oadway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otto- Liberty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ickname- Fist State/ Smal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Flower-Peach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ird- Blue Hen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ong- Our Dela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eaning behind name- For Thomas West Lord de la War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ere governor of the state is Jack Mark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Also the states mineral is Sillima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argest Cities are Willmington,Newark, Bethany and M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tate Tree is American H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elaware area code is 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1447920"/>
            <a:ext cx="3352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Delawar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ensguide.gpo.gov/3-5/state/delaw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Delaware: Map and State Flag"/>
          <p:cNvPicPr/>
          <p:nvPr/>
        </p:nvPicPr>
        <p:blipFill>
          <a:blip r:embed="rId2"/>
          <a:srcRect l="0" t="36012" r="0" b="0"/>
          <a:stretch/>
        </p:blipFill>
        <p:spPr>
          <a:xfrm>
            <a:off x="5486400" y="3581280"/>
            <a:ext cx="2208240" cy="243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419720"/>
            <a:ext cx="3886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la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2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chantedlearning.com/usa/states/delawar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3657600" cy="263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152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icture of the state flag and a picture of th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6858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50292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is is a 200 year old stat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57913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Capit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over DE,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000114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© 2000 WriteLine. Peach blossom"/>
          <p:cNvPicPr/>
          <p:nvPr/>
        </p:nvPicPr>
        <p:blipFill>
          <a:blip r:embed="rId1"/>
          <a:stretch/>
        </p:blipFill>
        <p:spPr>
          <a:xfrm>
            <a:off x="228600" y="228600"/>
            <a:ext cx="333864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© 2000 WriteLine. American Holly"/>
          <p:cNvPicPr/>
          <p:nvPr/>
        </p:nvPicPr>
        <p:blipFill>
          <a:blip r:embed="rId2"/>
          <a:stretch/>
        </p:blipFill>
        <p:spPr>
          <a:xfrm>
            <a:off x="6934320" y="304920"/>
            <a:ext cx="18478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© 2000 WriteLine. Blue Hen Chicken"/>
          <p:cNvPicPr/>
          <p:nvPr/>
        </p:nvPicPr>
        <p:blipFill>
          <a:blip r:embed="rId3"/>
          <a:stretch/>
        </p:blipFill>
        <p:spPr>
          <a:xfrm>
            <a:off x="4419720" y="3429000"/>
            <a:ext cx="2133360" cy="219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29000" y="160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Delaware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t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2680" y="350532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te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33412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laware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3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stamp/stamp-de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2:17Z</dcterms:created>
  <dc:creator>install</dc:creator>
  <dc:description/>
  <dc:language>en-US</dc:language>
  <cp:lastModifiedBy>install</cp:lastModifiedBy>
  <dcterms:modified xsi:type="dcterms:W3CDTF">2011-03-16T15:55:33Z</dcterms:modified>
  <cp:revision>8</cp:revision>
  <dc:subject/>
  <dc:title>Slide 1</dc:title>
</cp:coreProperties>
</file>